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30400" y="1459080"/>
            <a:ext cx="7326000" cy="4488840"/>
            <a:chOff x="1130400" y="1459080"/>
            <a:chExt cx="7326000" cy="4488840"/>
          </a:xfrm>
        </p:grpSpPr>
        <p:sp>
          <p:nvSpPr>
            <p:cNvPr id="89" name=""/>
            <p:cNvSpPr/>
            <p:nvPr/>
          </p:nvSpPr>
          <p:spPr>
            <a:xfrm>
              <a:off x="1130400" y="1459080"/>
              <a:ext cx="7326000" cy="448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4760" y="1459080"/>
              <a:ext cx="7249680" cy="44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209600" y="1646280"/>
            <a:ext cx="72691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4.03.05 -&gt; 23.03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2.07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08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4.03.05 -&gt; 30.03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5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21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01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2.02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nd S0 shifted due to change to 1.3MPix camera / TFT-display and additional necessary surface design mod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delivery start in 11/05 not feasible due to camera and display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fficial request to change timeline to 12/05 together with the feature set change on the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FT display schedule is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main PCB as Adonis to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wrt  Adonis: Liftpart PCB (Epson 732), display, camera, hinge flex, antenna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housing,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of MPix-Camera, driver for TFT-display and Epson 732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has b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fi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20T06:47:40Z</dcterms:modified>
  <cp:revision>715</cp:revision>
  <dc:subject/>
  <dc:title>PowerPoint Presentation</dc:title>
</cp:coreProperties>
</file>